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19.jpeg" ContentType="image/jpeg"/>
  <Override PartName="/ppt/media/image18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F6C1-AC89-45AD-B87C-25097B202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E5A1-93A6-4A4B-BB30-4FBC7B61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2C7D-F3B7-40F3-A737-A65B7A705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8A54-4B75-4530-9A65-E782B980B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5DE6-CE7D-4270-B102-E55B418B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DC44-75EA-4CD1-8F06-0997CF61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2CC8-DD2E-44F7-9FC7-6C881A48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E131-C2F0-4466-BC41-F5DF2605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5858-6DDC-43BE-9267-0277110B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AD44-34E4-407E-92A0-E3DEA641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4E67-31D2-4DF7-AD5B-B71CF269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C5BE-3ED8-488A-9A82-9DFE8803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CC33-F93A-4379-97E2-BA500ABE3D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Leif_Ericson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amous People Fri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3341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. Mundorf’s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tober 10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205704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is Leif Ericson famou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itle 4"/>
          <p:cNvSpPr/>
          <p:nvPr/>
        </p:nvSpPr>
        <p:spPr>
          <a:xfrm>
            <a:off x="5335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itle 4"/>
          <p:cNvSpPr/>
          <p:nvPr/>
        </p:nvSpPr>
        <p:spPr>
          <a:xfrm>
            <a:off x="228600" y="3657600"/>
            <a:ext cx="87631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is Zheng He famo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itle 4"/>
          <p:cNvSpPr/>
          <p:nvPr/>
        </p:nvSpPr>
        <p:spPr>
          <a:xfrm>
            <a:off x="152280" y="5181480"/>
            <a:ext cx="87631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is Christopher Columbus famo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day’s Famous Peo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57040" y="2286000"/>
            <a:ext cx="4800600" cy="2209680"/>
          </a:xfrm>
          <a:prstGeom prst="rect">
            <a:avLst/>
          </a:prstGeom>
          <a:solidFill>
            <a:srgbClr val="ccecff">
              <a:alpha val="5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eif Erics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Zheng He (jung HUH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hristopher Columbu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ge of Explo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utoShape 8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bms.westport.k12.ct.us/lmc/images/AgeExpMap.jpg"/>
          <p:cNvPicPr/>
          <p:nvPr/>
        </p:nvPicPr>
        <p:blipFill>
          <a:blip r:embed="rId1"/>
          <a:stretch/>
        </p:blipFill>
        <p:spPr>
          <a:xfrm>
            <a:off x="228600" y="1028880"/>
            <a:ext cx="875340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eif Erics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ontent Placeholder 6"/>
          <p:cNvSpPr/>
          <p:nvPr/>
        </p:nvSpPr>
        <p:spPr>
          <a:xfrm>
            <a:off x="3581280" y="152280"/>
            <a:ext cx="54165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orn in _______ c. 987, Son of Eric the 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isited ___________ in 999, converted to Christianity, and told by the King to convert __________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scovered a place in North America called _________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metimes called the European discoverer of __________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s discovery is not ____________ documen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ricson's voyages did not result in continuous ______________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eif Ericson Day – ___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Image:Leif-Ericson-2005072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37160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6"/>
          <p:cNvSpPr/>
          <p:nvPr/>
        </p:nvSpPr>
        <p:spPr>
          <a:xfrm>
            <a:off x="457200" y="6019920"/>
            <a:ext cx="3048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up of Leif in front of Hallgrímskirkja, in Reykjavík, Iceland. The statue was a gift from the United States gover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Image:Viking at MN Capitol.jpg"/>
          <p:cNvPicPr/>
          <p:nvPr/>
        </p:nvPicPr>
        <p:blipFill>
          <a:blip r:embed="rId1"/>
          <a:stretch/>
        </p:blipFill>
        <p:spPr>
          <a:xfrm>
            <a:off x="152280" y="228600"/>
            <a:ext cx="3476880" cy="4191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http://upload.wikimedia.org/wikipedia/commons/d/d3/LeifErikson1968stamp.jpg"/>
          <p:cNvPicPr/>
          <p:nvPr/>
        </p:nvPicPr>
        <p:blipFill>
          <a:blip r:embed="rId2"/>
          <a:stretch/>
        </p:blipFill>
        <p:spPr>
          <a:xfrm>
            <a:off x="914400" y="4343400"/>
            <a:ext cx="1495440" cy="2381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http://upload.wikimedia.org/wikipedia/commons/a/a7/Vikings-Voyages.png"/>
          <p:cNvPicPr/>
          <p:nvPr/>
        </p:nvPicPr>
        <p:blipFill>
          <a:blip r:embed="rId3"/>
          <a:stretch/>
        </p:blipFill>
        <p:spPr>
          <a:xfrm>
            <a:off x="3008160" y="2819520"/>
            <a:ext cx="5754960" cy="3938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http://www.lost-civilizations.net/images/vikings/vikingmap.gif"/>
          <p:cNvPicPr/>
          <p:nvPr/>
        </p:nvPicPr>
        <p:blipFill>
          <a:blip r:embed="rId4"/>
          <a:stretch/>
        </p:blipFill>
        <p:spPr>
          <a:xfrm>
            <a:off x="5638680" y="228600"/>
            <a:ext cx="2367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Zheng He (jung HUH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352320" y="272520"/>
            <a:ext cx="5791320" cy="643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orn in ___________, c. 137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miral in the Imperial Chinese __________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de seven voyages to Southeast Asia, _______, and Africa to explore and _______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re is a theory that Zheng He beat ___________ by more than _____ years in discovering America (1421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1434, a new ruler stopped Chinese exploration because he didn’t think China needed to have contact with other ___________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www.childbook.com/v/vspfiles/photos/AB0155-2T.jpg"/>
          <p:cNvPicPr/>
          <p:nvPr/>
        </p:nvPicPr>
        <p:blipFill>
          <a:blip r:embed="rId1"/>
          <a:stretch/>
        </p:blipFill>
        <p:spPr>
          <a:xfrm>
            <a:off x="152280" y="1828800"/>
            <a:ext cx="3059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http://upload.wikimedia.org/wikipedia/commons/thumb/b/bc/Zhenghemap.jpg/460px-Zhenghemap.jpg"/>
          <p:cNvPicPr/>
          <p:nvPr/>
        </p:nvPicPr>
        <p:blipFill>
          <a:blip r:embed="rId1"/>
          <a:stretch/>
        </p:blipFill>
        <p:spPr>
          <a:xfrm>
            <a:off x="228600" y="152280"/>
            <a:ext cx="4381560" cy="3105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http://www.aa2sbu.org/aaezine/images/H/ZhengHeShip.jpg"/>
          <p:cNvPicPr/>
          <p:nvPr/>
        </p:nvPicPr>
        <p:blipFill>
          <a:blip r:embed="rId2"/>
          <a:stretch/>
        </p:blipFill>
        <p:spPr>
          <a:xfrm>
            <a:off x="5410080" y="762120"/>
            <a:ext cx="3048120" cy="1904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web000.greece.k12.ny.us/SocialStudiesResources/Social_Studies_Resources/GHG_Documents/ZhengHe-01.03-QT100.jpg"/>
          <p:cNvPicPr/>
          <p:nvPr/>
        </p:nvPicPr>
        <p:blipFill>
          <a:blip r:embed="rId3"/>
          <a:srcRect l="0" t="0" r="0" b="25662"/>
          <a:stretch/>
        </p:blipFill>
        <p:spPr>
          <a:xfrm>
            <a:off x="3276720" y="3124080"/>
            <a:ext cx="5686200" cy="3505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1421"/>
          <p:cNvPicPr/>
          <p:nvPr/>
        </p:nvPicPr>
        <p:blipFill>
          <a:blip r:embed="rId4"/>
          <a:stretch/>
        </p:blipFill>
        <p:spPr>
          <a:xfrm>
            <a:off x="609480" y="3505320"/>
            <a:ext cx="20145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095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ristopher Columb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574800" y="272880"/>
            <a:ext cx="5568840" cy="65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orn in 1451 near Genoa, _____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anted to sail west across the __________ instead of south around Africa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e didn’t know that the ____________ were between Europe and As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pain hoped to make money and spread Roman ______________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 1492 the ships arrived at an island in the Caribbean Sea. It is part of the present day _________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e named the islands the West ________ and the people living on them _________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://www.sulgravemanor.org.uk/images/christopher_columbus.jpg"/>
          <p:cNvPicPr/>
          <p:nvPr/>
        </p:nvPicPr>
        <p:blipFill>
          <a:blip r:embed="rId1"/>
          <a:stretch/>
        </p:blipFill>
        <p:spPr>
          <a:xfrm>
            <a:off x="457200" y="1905120"/>
            <a:ext cx="285768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rcRect l="12502" t="22001" r="45626" b="38003"/>
          <a:stretch/>
        </p:blipFill>
        <p:spPr>
          <a:xfrm>
            <a:off x="4038480" y="3809880"/>
            <a:ext cx="5105520" cy="3048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http://www.spvocation.org/site/external/fckeditor/data/Image/FOTM/LandingofColumbus.jpg"/>
          <p:cNvPicPr/>
          <p:nvPr/>
        </p:nvPicPr>
        <p:blipFill>
          <a:blip r:embed="rId2"/>
          <a:stretch/>
        </p:blipFill>
        <p:spPr>
          <a:xfrm>
            <a:off x="0" y="3571920"/>
            <a:ext cx="4390920" cy="3286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3"/>
          <a:srcRect l="35625" t="30000" r="46877" b="27000"/>
          <a:stretch/>
        </p:blipFill>
        <p:spPr>
          <a:xfrm>
            <a:off x="6095880" y="152280"/>
            <a:ext cx="2133720" cy="3276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4"/>
          <a:srcRect l="15000" t="24000" r="43751" b="14003"/>
          <a:stretch/>
        </p:blipFill>
        <p:spPr>
          <a:xfrm>
            <a:off x="457200" y="0"/>
            <a:ext cx="396252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8:30:37Z</dcterms:created>
  <dc:creator>CCPS</dc:creator>
  <dc:description/>
  <dc:language>en-US</dc:language>
  <cp:lastModifiedBy>CCPS</cp:lastModifiedBy>
  <dcterms:modified xsi:type="dcterms:W3CDTF">2008-10-10T12:48:38Z</dcterms:modified>
  <cp:revision>30</cp:revision>
  <dc:subject/>
  <dc:title>Famous People Friday</dc:title>
</cp:coreProperties>
</file>